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0094655-95F8-4985-9FE4-7FFF800238A6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A267-F2E6-4066-9E92-6B17AF906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9D06-A543-4492-8128-CB023F6C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1303-FA5E-496D-BE31-389B8815D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C53D-B7C5-4862-BCF3-3BB18275F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EEC6-C5DD-4514-9348-20933717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6A27-8F17-48CF-BB1D-04EDFDB9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C5FD-9F2A-4197-B7B8-7F93985B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8309-B6C9-4715-8A44-DF596590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8DFC-31CD-4BD9-B4B1-9E2A4396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8DC2-2034-4B79-8536-589A135C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BD77-C97F-4B86-B346-1B005A2E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3F4F-83B9-4096-83F2-0E8D4C26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3616C6F-E574-4535-9988-857806BE7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61080" y="4572000"/>
            <a:ext cx="2916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2f342"/>
                </a:solidFill>
                <a:latin typeface="Arial"/>
              </a:rPr>
              <a:t>Si tu Vaca suena as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2f342"/>
                </a:solidFill>
                <a:latin typeface="Arial"/>
              </a:rPr>
              <a:t>entonces come otra va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19080" y="4548240"/>
            <a:ext cx="313704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Arial"/>
              </a:rPr>
              <a:t>Si tu vaca suena así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Arial"/>
              </a:rPr>
              <a:t>entones podrás hacer parri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Arial"/>
              </a:rPr>
              <a:t>con el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52680" y="2533680"/>
            <a:ext cx="1852560" cy="1835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95880" y="2533680"/>
            <a:ext cx="1839960" cy="182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3200400" y="5029200"/>
          <a:ext cx="33336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5029200"/>
                    <a:ext cx="33336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875200" y="5037120"/>
          <a:ext cx="295560" cy="29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75200" y="5037120"/>
                    <a:ext cx="29556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1243440" y="457200"/>
            <a:ext cx="6506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Comic Sans MS"/>
              </a:rPr>
              <a:t>Servicio de Anuncios Públ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74080" y="1585800"/>
            <a:ext cx="718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o identificar si tu vaca tiene la enfermedad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las Vacas Loc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0T17:13:06Z</dcterms:created>
  <dc:creator>Steven M. Sokol</dc:creator>
  <dc:description/>
  <dc:language>en-US</dc:language>
  <cp:lastModifiedBy>intevep-user</cp:lastModifiedBy>
  <cp:lastPrinted>31138-05-05T23:48:42Z</cp:lastPrinted>
  <dcterms:modified xsi:type="dcterms:W3CDTF">1998-07-02T17:36:52Z</dcterms:modified>
  <cp:revision>18553</cp:revision>
  <dc:subject/>
  <dc:title>No Slide Title</dc:title>
</cp:coreProperties>
</file>